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EB2-3326-46F4-9E11-656D6F33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502-3E3D-41EC-8EFB-E7D1369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1A7-9DB5-4ADD-9C5B-CFB145E1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942-4FE6-4884-B43F-986AB8DB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5C2-B7D9-4CFF-8FB1-496C885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37A-0988-479C-A091-DC0E4A5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2CA-5974-4820-AD8A-FDBCA439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7AD-934A-427E-8F96-945CE90B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A2D-49BD-4313-BD27-D2FBFE8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A31-1B5D-460F-9B8E-D130F4D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345-5BEE-4E8C-BF16-8EDECE5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CB9-9FB6-445A-A24D-1279E501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C85-6FB7-467B-856C-9EB3D7415B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في استقبا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56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  <a:cs typeface="Akhbar MT"/>
              </a:rPr>
              <a:t>تنهضُ بالشوقِ إلـى الـمواعيد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8800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 تسمعُ كلماتِكَ الشهيّة تدعوها لتصعَدَ إلـى العيد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76640"/>
            <a:ext cx="9144000" cy="203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ُصغي إلى صوتِكَ الحبيب فتذكُرُ أنّك آتٍ حق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716280"/>
            <a:ext cx="874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نّ تجلّيكَ فيها قريب هللو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360" y="-27000"/>
            <a:ext cx="5435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فرحِ والحبِ تسجُدُ لكَ يا كلمةَ الخلاصِ والحياة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51134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تهتِفُ عند ذكرِ اسمِ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32800" y="1984320"/>
            <a:ext cx="656028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ف</cp:lastModifiedBy>
  <dcterms:modified xsi:type="dcterms:W3CDTF">2006-11-13T21:20:29Z</dcterms:modified>
  <cp:revision>13</cp:revision>
  <dc:subject/>
  <dc:title>Slide 1</dc:title>
</cp:coreProperties>
</file>